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alligator.wav" ContentType="audio/x-wav"/>
  <Override PartName="/ppt/media/image12.png" ContentType="image/png"/>
  <Override PartName="/ppt/media/024believe.wav" ContentType="audio/x-wav"/>
  <Override PartName="/ppt/media/image8.png" ContentType="image/png"/>
  <Override PartName="/ppt/media/WHOOSH.WAV" ContentType="audio/x-wav"/>
  <Override PartName="/ppt/media/image4.png" ContentType="image/png"/>
  <Override PartName="/ppt/media/all2easy.wav" ContentType="audio/x-wav"/>
  <Override PartName="/ppt/media/image5.wmf" ContentType="image/x-wmf"/>
  <Override PartName="/ppt/media/image6.png" ContentType="image/png"/>
  <Override PartName="/ppt/media/028hooboy.wav" ContentType="audio/x-wav"/>
  <Override PartName="/ppt/media/image14.wmf" ContentType="image/x-wmf"/>
  <Override PartName="/ppt/media/look_good.wav" ContentType="audio/x-wav"/>
  <Override PartName="/ppt/media/image11.png" ContentType="image/png"/>
  <Override PartName="/ppt/media/lizard.wav" ContentType="audio/x-wav"/>
  <Override PartName="/ppt/media/image15.wmf" ContentType="image/x-wmf"/>
  <Override PartName="/ppt/media/image7.png" ContentType="image/png"/>
  <Override PartName="/ppt/media/image16.png" ContentType="image/png"/>
  <Override PartName="/ppt/media/image3.jpeg" ContentType="image/jpeg"/>
  <Override PartName="/ppt/media/047blowme.wav" ContentType="audio/x-wav"/>
  <Override PartName="/ppt/media/confusing.wav" ContentType="audio/x-wav"/>
  <Override PartName="/ppt/media/image1.wmf" ContentType="image/x-wmf"/>
  <Override PartName="/ppt/media/009well.wav" ContentType="audio/x-wav"/>
  <Override PartName="/ppt/media/image2.png" ContentType="image/png"/>
  <Override PartName="/ppt/media/meow2.wav" ContentType="audio/x-wav"/>
  <Override PartName="/ppt/media/APPLAUSE.WAV" ContentType="audio/x-wav"/>
  <Override PartName="/ppt/media/image9.png" ContentType="image/png"/>
  <Override PartName="/ppt/media/halleluja.wav" ContentType="audio/x-wav"/>
  <Override PartName="/ppt/media/image10.jpeg" ContentType="image/jpeg"/>
  <Override PartName="/ppt/media/DRUMROLL.WAV" ContentType="audio/x-wav"/>
  <Override PartName="/ppt/media/operational.wav" ContentType="audio/x-wav"/>
  <Override PartName="/ppt/media/away_we_go.wav" ContentType="audio/x-wav"/>
  <Override PartName="/ppt/media/flintston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5C0-0F92-4541-B536-AE93192E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49C-F8BF-4DCE-A582-AA8C5EEE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DE4-A9B7-4A5D-BED6-B80280FD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CDA-41DF-406A-A7E0-08EF26D9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B40-FABB-4EA5-9BAB-78259E07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D92-ABB9-45B2-A7F4-D21EC9A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0E8-4D3F-4ED1-BF7D-314A716F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822-D0A7-4055-974D-680F1A52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BD1-35BE-49CD-858F-C2368358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29F-239D-49C5-90AD-604862D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A61-05FC-4432-A4FB-BB04488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9B6-45D7-4CAE-A4FF-2EC3E6D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589F-B148-4F00-AC1E-FC45744BB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024believ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halleluj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flintston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operationa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audio" Target="../media/alliga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nfusing.wav"/><Relationship Id="rId3" Type="http://schemas.openxmlformats.org/officeDocument/2006/relationships/audio" Target="../media/away_we_go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ll2easy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audio" Target="../media/047blowm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audio" Target="../media/lizar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009we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eow2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312408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VERBally SPEAK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6920" y="60609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Carol Rom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1971720" cy="2571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house"/>
          <p:cNvPicPr/>
          <p:nvPr/>
        </p:nvPicPr>
        <p:blipFill>
          <a:blip r:embed="rId1"/>
          <a:stretch/>
        </p:blipFill>
        <p:spPr>
          <a:xfrm>
            <a:off x="838080" y="457200"/>
            <a:ext cx="323856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192200" y="1600200"/>
            <a:ext cx="244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r ho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hau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a ghos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94720" y="555948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794760" y="5483160"/>
            <a:ext cx="12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766200" y="5483160"/>
            <a:ext cx="17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u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2s"/>
          <p:cNvPicPr/>
          <p:nvPr/>
        </p:nvPicPr>
        <p:blipFill>
          <a:blip r:embed="rId2"/>
          <a:stretch/>
        </p:blipFill>
        <p:spPr>
          <a:xfrm>
            <a:off x="7238880" y="304920"/>
            <a:ext cx="13716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4belie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HA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halleluj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toc1on"/>
          <p:cNvPicPr/>
          <p:nvPr/>
        </p:nvPicPr>
        <p:blipFill>
          <a:blip r:embed="rId1"/>
          <a:stretch/>
        </p:blipFill>
        <p:spPr>
          <a:xfrm>
            <a:off x="5334120" y="380880"/>
            <a:ext cx="273024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369800" y="1676520"/>
            <a:ext cx="293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 danc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night 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35320" y="571500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277080" y="571500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n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157440" y="57117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lintston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D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robot"/>
          <p:cNvPicPr/>
          <p:nvPr/>
        </p:nvPicPr>
        <p:blipFill>
          <a:blip r:embed="rId1"/>
          <a:stretch/>
        </p:blipFill>
        <p:spPr>
          <a:xfrm>
            <a:off x="2438280" y="304920"/>
            <a:ext cx="205740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omputer"/>
          <p:cNvPicPr/>
          <p:nvPr/>
        </p:nvPicPr>
        <p:blipFill>
          <a:blip r:embed="rId2"/>
          <a:stretch/>
        </p:blipFill>
        <p:spPr>
          <a:xfrm>
            <a:off x="228600" y="457200"/>
            <a:ext cx="1905120" cy="196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5396040" y="1063800"/>
            <a:ext cx="319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r 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compu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it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19120" y="56358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70720" y="5559480"/>
            <a:ext cx="11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309720" y="5483160"/>
            <a:ext cx="12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peratio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28hoo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look_goo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LLIGATO"/>
          <p:cNvPicPr/>
          <p:nvPr/>
        </p:nvPicPr>
        <p:blipFill>
          <a:blip r:embed="rId1"/>
          <a:stretch/>
        </p:blipFill>
        <p:spPr>
          <a:xfrm>
            <a:off x="4724280" y="1066680"/>
            <a:ext cx="3657600" cy="358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1648080" cy="743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8040" y="2739960"/>
            <a:ext cx="279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lig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ushes 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e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2080" y="571176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565800" y="5635800"/>
            <a:ext cx="187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ig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538680" y="5635800"/>
            <a:ext cx="17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us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lligator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10840" y="324000"/>
            <a:ext cx="776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S:  When a slide with a sent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where 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.  If a           shows, click on it to go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666880" y="1371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9120" y="3807000"/>
            <a:ext cx="33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you rea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mputer-owl"/>
          <p:cNvPicPr/>
          <p:nvPr/>
        </p:nvPicPr>
        <p:blipFill>
          <a:blip r:embed="rId1"/>
          <a:stretch/>
        </p:blipFill>
        <p:spPr>
          <a:xfrm>
            <a:off x="4267080" y="2666880"/>
            <a:ext cx="236232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onfusin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ay_we_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bru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>
            <a:hlinkClick r:id="" action="ppaction://hlinkshowjump?jump=la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ll2eas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6096240" cy="5867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959200" y="1717560"/>
            <a:ext cx="31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: A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A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star44"/>
          <p:cNvPicPr/>
          <p:nvPr/>
        </p:nvPicPr>
        <p:blipFill>
          <a:blip r:embed="rId2"/>
          <a:stretch/>
        </p:blipFill>
        <p:spPr>
          <a:xfrm>
            <a:off x="4267080" y="26668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409560" y="3927600"/>
            <a:ext cx="33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47blow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94000" y="149400"/>
            <a:ext cx="7663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ws 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eball play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hi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a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 is the verb and tells you what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yer d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baseb"/>
          <p:cNvPicPr/>
          <p:nvPr/>
        </p:nvPicPr>
        <p:blipFill>
          <a:blip r:embed="rId1"/>
          <a:stretch/>
        </p:blipFill>
        <p:spPr>
          <a:xfrm>
            <a:off x="3733920" y="2590920"/>
            <a:ext cx="303516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439560" y="62136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A verb is something you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eko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815040" y="252360"/>
            <a:ext cx="71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zard crawled on the ro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47720" y="563580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795120" y="56358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l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960" y="563580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aw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iza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CRAW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28hoo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09we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067760" y="1523880"/>
            <a:ext cx="274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grey c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ch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wn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42440" y="5483160"/>
            <a:ext cx="18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71440" y="54072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57080" y="540720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trash"/>
          <p:cNvPicPr/>
          <p:nvPr/>
        </p:nvPicPr>
        <p:blipFill>
          <a:blip r:embed="rId1"/>
          <a:stretch/>
        </p:blipFill>
        <p:spPr>
          <a:xfrm>
            <a:off x="4419720" y="612720"/>
            <a:ext cx="4724280" cy="346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W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0T13:25:24Z</dcterms:created>
  <dc:creator>NMS</dc:creator>
  <dc:description/>
  <dc:language>en-US</dc:language>
  <cp:lastModifiedBy>teacher</cp:lastModifiedBy>
  <dcterms:modified xsi:type="dcterms:W3CDTF">2010-11-01T00:33:49Z</dcterms:modified>
  <cp:revision>14</cp:revision>
  <dc:subject/>
  <dc:title>No Slide Title</dc:title>
</cp:coreProperties>
</file>